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53F-225E-4FE9-8755-14649327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324-291C-4BCB-B393-8DB26A1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007-844F-4716-8562-4677B801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F88-8E84-4A94-9378-0E3E2FDF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CFB-E191-4970-AF91-B394869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C90-1AE3-4CCB-8512-786607A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DF4-B16C-451E-BE42-032F33CB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0E9-D456-4B25-B758-3058CFE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567-5A8D-4C78-B818-6A4C2E7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63D-8ECA-4A8F-94DF-62E3FFD9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A43-15A5-4125-855C-30DAA44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8D5-49A3-48BC-9248-C973707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61C-61EC-4F52-9917-58CBFF4C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42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14504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-up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243160"/>
            <a:ext cx="600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752120"/>
            <a:ext cx="8832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op-u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magnetic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rint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alogen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wer 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49600" y="1655640"/>
            <a:ext cx="58611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5720" y="1824120"/>
            <a:ext cx="6499440" cy="450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open frame and position it where you want the display to finally 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 middle joints together to secure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should be concave and will stand without as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03520" y="2052720"/>
            <a:ext cx="6497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c Str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654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four magnetic strips to the front of the frame and two strips to the back edges of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98640" y="2057400"/>
            <a:ext cx="6108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ed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how printed panels have magnetic clips in the corners and magnetic strips along the ed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64976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with middle panels (#2-4), attach panels to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03520" y="1905120"/>
            <a:ext cx="6497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de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s #1 and #5 wrap around the sides of the frame and secure to magnets on the front and back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03520" y="2057400"/>
            <a:ext cx="64976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ghts may be attached to the top of the frame. Note: the lights will not snap securely to the frame. Instead, they use gravity to balance between the bars. Diagonal grooves on the lights help guide them into the correct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7800" y="2743200"/>
            <a:ext cx="4076640" cy="282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35680" y="2743200"/>
            <a:ext cx="4127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49:13Z</dcterms:created>
  <dc:creator>Kristine Yun</dc:creator>
  <dc:description/>
  <dc:language>en-US</dc:language>
  <cp:lastModifiedBy>Kristine Yun</cp:lastModifiedBy>
  <dcterms:modified xsi:type="dcterms:W3CDTF">2008-02-06T15:23:27Z</dcterms:modified>
  <cp:revision>3</cp:revision>
  <dc:subject/>
  <dc:title>EXPReS Display</dc:title>
</cp:coreProperties>
</file>